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0743C-623C-4EE5-BD2A-79EFD35D8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1CA5C-A8EC-4C17-AB8E-DC3530DF4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4ED77-62D0-4C3C-8C11-962C92621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AD79F-4676-4EC6-A046-DC607C25A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6147E-EACD-4BAA-AAD7-4ACC17FF2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2A4D1-C971-4480-9B03-C7E101270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76C7C-C807-4721-9F07-614C92DC3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61879-3C3E-4B55-B0B1-DFB8F9014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557F4-A755-460D-A8B1-F41B03F6B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1727F-9AD7-4BB5-959A-28B5467BB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4D0C4-A9FF-4667-8EE0-721BA6F7B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42D02-5D38-4ABE-82EF-BB647B264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B1FE-4A6B-47E9-9239-BA2B115B242D}"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 and abstract writ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43" name="Picture 3" descr=""/>
          <p:cNvPicPr/>
          <p:nvPr/>
        </p:nvPicPr>
        <p:blipFill>
          <a:blip r:embed="rId1"/>
          <a:stretch/>
        </p:blipFill>
        <p:spPr>
          <a:xfrm>
            <a:off x="7000920" y="109440"/>
            <a:ext cx="2093760" cy="1481400"/>
          </a:xfrm>
          <a:prstGeom prst="rect">
            <a:avLst/>
          </a:prstGeom>
          <a:ln w="0">
            <a:noFill/>
          </a:ln>
        </p:spPr>
      </p:pic>
      <p:grpSp>
        <p:nvGrpSpPr>
          <p:cNvPr id="44" name="Group 4"/>
          <p:cNvGrpSpPr/>
          <p:nvPr/>
        </p:nvGrpSpPr>
        <p:grpSpPr>
          <a:xfrm>
            <a:off x="155520" y="6170760"/>
            <a:ext cx="1606680" cy="528480"/>
            <a:chOff x="155520" y="6170760"/>
            <a:chExt cx="1606680" cy="528480"/>
          </a:xfrm>
        </p:grpSpPr>
        <p:pic>
          <p:nvPicPr>
            <p:cNvPr id="45" name="Picture 5" descr="http://research.ncl.ac.uk/media/sites/researchwebsites/rescapmed/EUlogo.jpg"/>
            <p:cNvPicPr/>
            <p:nvPr/>
          </p:nvPicPr>
          <p:blipFill>
            <a:blip r:embed="rId2"/>
            <a:stretch/>
          </p:blipFill>
          <p:spPr>
            <a:xfrm>
              <a:off x="155520" y="6170760"/>
              <a:ext cx="811440" cy="528480"/>
            </a:xfrm>
            <a:prstGeom prst="rect">
              <a:avLst/>
            </a:prstGeom>
            <a:ln w="0">
              <a:noFill/>
            </a:ln>
          </p:spPr>
        </p:pic>
        <p:pic>
          <p:nvPicPr>
            <p:cNvPr id="46" name="Picture 6" descr="http://research.ncl.ac.uk/media/sites/researchwebsites/rescapmed/FP7logo2.jpg"/>
            <p:cNvPicPr/>
            <p:nvPr/>
          </p:nvPicPr>
          <p:blipFill>
            <a:blip r:embed="rId3"/>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eamlessly blend the elements of the text into one coherent paragra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 only relevant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a clear and concise writing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ke objectives stan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repetition and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ntion novel method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ly present most important result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s: just the major implications; relate back to your purpose and 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rce you to summarise the purpose, scope, argument and originality of your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styl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lear and con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move or shorten unnecessary words/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abbreviations, acrony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fine unfamiliar ter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ediocre abstract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like a table of cont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behaviour of editors is discussed. What should be covered by an abstract is considered. The importance of the abstract is described. Dictionary definitions of “abstract” are quoted. At the conclusion a revised abstract is pres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Mediocre abstracts – improved exampl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abstract is of utmost importance, for it is read by 10 to 500 times more people than hear the presentation or read the entire article. It should not be a mere recital of the subjects covered, replete with such expressions as “is discussed” and “Is described.” It should be a condensation and concentration of the essential qualities of the pap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Abstracts for qualitative research</a:t>
            </a:r>
            <a:br>
              <a:rPr sz="4000"/>
            </a:br>
            <a:r>
              <a:rPr b="0" lang="en-IE" sz="2400" spc="-1" strike="noStrike">
                <a:solidFill>
                  <a:srgbClr val="000000"/>
                </a:solidFill>
                <a:latin typeface="Calibri"/>
              </a:rPr>
              <a:t>two examples (one structured, one unstructured)</a:t>
            </a:r>
            <a:endParaRPr b="0" lang="en-US" sz="2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www.globalizationandhealth.com/content/7/1/17/abstrac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onlinelibrary.wiley.com/doi/10.1111/maq.12005/abstract</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Picture 2" descr=""/>
          <p:cNvPicPr/>
          <p:nvPr/>
        </p:nvPicPr>
        <p:blipFill>
          <a:blip r:embed="rId2"/>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4" descr=""/>
          <p:cNvPicPr/>
          <p:nvPr/>
        </p:nvPicPr>
        <p:blipFill>
          <a:blip r:embed="rId2"/>
          <a:stretch/>
        </p:blipFill>
        <p:spPr>
          <a:xfrm>
            <a:off x="250920" y="293760"/>
            <a:ext cx="8893080" cy="64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onveys clearly and concisely what the paper is abo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Should indicate narrow focus of the pap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Should be unambiguous in plain Englis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What do you most want to conve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challenge to current thinking?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new methodolog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an include the population, study design and intervention and/or outco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A question may be a way to summarise purpo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bstrac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 brief description of a larger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with an abstract for a research centred journal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ually scientific abstracts but lay abstracts for a wider aud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lways read the instructions for authors when writing abstra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 reader decide whether to read text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ummarises the findings of the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s scholars find your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Qualities of an abstrac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or more well-developed paragrap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rt  (100-300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nds a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s all major elements of the larger text (in same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No new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ucture of an abs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opic/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BUT social science journals rarely ask for structured abstracts, even if the same principles a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inish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ke a br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over your paper and identify key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to two sentences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ckground/research ques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clusions/recommend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nect the ideas with appropriate trans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dd and remove text as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vise, edit and Proofr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For literature reviews/critical essays</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roblem/Topic investig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sis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Your conclusions based on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 for review if no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0:13:38Z</dcterms:created>
  <dc:creator>Kathleen Bennett</dc:creator>
  <dc:description/>
  <dc:language>en-US</dc:language>
  <cp:lastModifiedBy>Licenced User</cp:lastModifiedBy>
  <dcterms:modified xsi:type="dcterms:W3CDTF">2014-09-18T15:34:39Z</dcterms:modified>
  <cp:revision>22</cp:revision>
  <dc:subject/>
  <dc:title>Title and abstract writing</dc:title>
</cp:coreProperties>
</file>